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66472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88448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4460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66472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488448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66472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8448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460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66472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88448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66472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88448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4460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266472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488448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266472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88448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4460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266472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488448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66472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88448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4460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266472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488448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6472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8448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4460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266472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488448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66472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8448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4460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66472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488448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66472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88448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4460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66472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488448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66472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8448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4460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266472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488448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66472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8448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4460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66472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488448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66472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88448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4460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266472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488448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44240" y="151920"/>
            <a:ext cx="1211580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4600" y="5771520"/>
            <a:ext cx="656568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809160" y="23749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4460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809160" y="5771520"/>
            <a:ext cx="320400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66472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84480" y="23749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4460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66472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4884480" y="5771520"/>
            <a:ext cx="2113920" cy="3101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4240" y="3174840"/>
            <a:ext cx="12115800" cy="20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4240" y="5346720"/>
            <a:ext cx="1211580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1000"/>
          </a:bodyPr>
          <a:p>
            <a:pPr marL="106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06200" indent="-106200" algn="ctr">
              <a:buClr>
                <a:srgbClr val="5f7bae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06200" indent="-106200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06200" indent="-106200" algn="ctr">
              <a:buClr>
                <a:srgbClr val="5f7bae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106200" indent="-106200" algn="ctr">
              <a:buClr>
                <a:srgbClr val="5f7bae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106200" indent="-106200" algn="ctr">
              <a:buClr>
                <a:srgbClr val="5f7bae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106200" indent="-106200" algn="ctr">
              <a:buClr>
                <a:srgbClr val="5f7bae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7084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11996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51992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93140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23428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23428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2342880" indent="-3200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2400" y="2374920"/>
            <a:ext cx="47880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0000"/>
          </a:bodyPr>
          <a:p>
            <a:pPr marL="55080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87084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18224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50228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182232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182232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1822320" indent="-24876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44600" y="140976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44600" y="478800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2984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298440" indent="-298440" algn="ctr">
              <a:buClr>
                <a:srgbClr val="5f7bae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298440" indent="-298440" algn="ctr">
              <a:buClr>
                <a:srgbClr val="5f7bae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298440" indent="-298440" algn="ctr">
              <a:buClr>
                <a:srgbClr val="5f7bae"/>
              </a:buClr>
              <a:buFont typeface="Palatino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298440" indent="-298440" algn="ctr">
              <a:buClr>
                <a:srgbClr val="5f7bae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298440" indent="-298440" algn="ctr">
              <a:buClr>
                <a:srgbClr val="5f7bae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298440" indent="-298440" algn="ctr">
              <a:buClr>
                <a:srgbClr val="5f7bae"/>
              </a:buClr>
              <a:buFont typeface="Palatino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66132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0450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41876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8028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4240" y="6527520"/>
            <a:ext cx="12115800" cy="222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4240" y="3174840"/>
            <a:ext cx="12115800" cy="339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44240" y="2374920"/>
            <a:ext cx="1211580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77580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1" marL="120564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2" marL="162360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3" marL="205308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4" marL="248292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5" marL="248292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6" marL="2482920" indent="-370080">
              <a:spcBef>
                <a:spcPts val="2999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444240" y="1270080"/>
            <a:ext cx="1211580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77580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1" marL="120564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2" marL="162360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3" marL="205308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4" marL="248292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5" marL="248292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  <a:p>
            <a:pPr lvl="6" marL="2482920" indent="-370080">
              <a:spcBef>
                <a:spcPts val="4000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42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66132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1" marL="10450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2" marL="141876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3" marL="180288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4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5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lvl="6" marL="2186640" indent="-298440">
              <a:spcBef>
                <a:spcPts val="4501"/>
              </a:spcBef>
              <a:buClr>
                <a:srgbClr val="5f7bae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44240" y="3174840"/>
            <a:ext cx="12115800" cy="20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Weather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44240" y="5346720"/>
            <a:ext cx="1211580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hapter 16/11/15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44240" y="3174840"/>
            <a:ext cx="12115800" cy="204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Severe weather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44240" y="5346720"/>
            <a:ext cx="1211580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" descr=""/>
          <p:cNvPicPr/>
          <p:nvPr/>
        </p:nvPicPr>
        <p:blipFill>
          <a:blip r:embed="rId1"/>
          <a:stretch/>
        </p:blipFill>
        <p:spPr>
          <a:xfrm>
            <a:off x="7416720" y="2927520"/>
            <a:ext cx="4521240" cy="5879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Thunderstorms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355320">
              <a:spcBef>
                <a:spcPts val="4501"/>
              </a:spcBef>
              <a:buSzPct val="100000"/>
              <a:buBlip>
                <a:blip r:embed="rId2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heavy rains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marL="838080" indent="-355320">
              <a:spcBef>
                <a:spcPts val="4501"/>
              </a:spcBef>
              <a:buSzPct val="100000"/>
              <a:buBlip>
                <a:blip r:embed="rId3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lightning flashes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marL="838080" indent="-355320">
              <a:spcBef>
                <a:spcPts val="4501"/>
              </a:spcBef>
              <a:buSzPct val="100000"/>
              <a:buBlip>
                <a:blip r:embed="rId4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under roars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marL="838080" indent="-355320">
              <a:spcBef>
                <a:spcPts val="4501"/>
              </a:spcBef>
              <a:buSzPct val="100000"/>
              <a:buBlip>
                <a:blip r:embed="rId5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hail?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1" descr=""/>
          <p:cNvPicPr/>
          <p:nvPr/>
        </p:nvPicPr>
        <p:blipFill>
          <a:blip r:embed="rId1"/>
          <a:stretch/>
        </p:blipFill>
        <p:spPr>
          <a:xfrm>
            <a:off x="7238880" y="2495520"/>
            <a:ext cx="4521240" cy="58802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7800" y="1739880"/>
            <a:ext cx="7404120" cy="7988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355320">
              <a:spcBef>
                <a:spcPts val="4501"/>
              </a:spcBef>
              <a:buSzPct val="100000"/>
              <a:buBlip>
                <a:blip r:embed="rId2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warm moist air 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marL="838080" indent="-355320">
              <a:spcBef>
                <a:spcPts val="4501"/>
              </a:spcBef>
              <a:buSzPct val="100000"/>
              <a:buBlip>
                <a:blip r:embed="rId3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along fronts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marL="838080" indent="-355320">
              <a:spcBef>
                <a:spcPts val="4501"/>
              </a:spcBef>
              <a:buSzPct val="100000"/>
              <a:buBlip>
                <a:blip r:embed="rId4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warm most air rapidly forced upward where it cools and condenses, forming cumulonimbus clouds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marL="838080" indent="-355320">
              <a:spcBef>
                <a:spcPts val="4501"/>
              </a:spcBef>
              <a:buSzPct val="100000"/>
              <a:buBlip>
                <a:blip r:embed="rId5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rising air cools, water vapor condenses into water droplets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marL="838080" indent="-355320">
              <a:spcBef>
                <a:spcPts val="4501"/>
              </a:spcBef>
              <a:buSzPct val="100000"/>
              <a:buBlip>
                <a:blip r:embed="rId6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inking air and strong updrafts cause strong winds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1" descr=""/>
          <p:cNvPicPr/>
          <p:nvPr/>
        </p:nvPicPr>
        <p:blipFill>
          <a:blip r:embed="rId1"/>
          <a:stretch/>
        </p:blipFill>
        <p:spPr>
          <a:xfrm>
            <a:off x="7416720" y="2927520"/>
            <a:ext cx="4521240" cy="587988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Lightning &amp; Thunder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355320">
              <a:spcBef>
                <a:spcPts val="4501"/>
              </a:spcBef>
              <a:buSzPct val="100000"/>
              <a:buBlip>
                <a:blip r:embed="rId2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when current flows between regions of opposite electrical charge, lightning flashes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marL="838080" indent="-355320">
              <a:spcBef>
                <a:spcPts val="4501"/>
              </a:spcBef>
              <a:buSzPct val="100000"/>
              <a:buBlip>
                <a:blip r:embed="rId3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under results from the rapid heating of air around a bolt of lightning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1" descr=""/>
          <p:cNvPicPr/>
          <p:nvPr/>
        </p:nvPicPr>
        <p:blipFill>
          <a:blip r:embed="rId1"/>
          <a:stretch/>
        </p:blipFill>
        <p:spPr>
          <a:xfrm>
            <a:off x="7416720" y="2927520"/>
            <a:ext cx="4521240" cy="58798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tornadoes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355320">
              <a:spcBef>
                <a:spcPts val="4501"/>
              </a:spcBef>
              <a:buSzPct val="100000"/>
              <a:buBlip>
                <a:blip r:embed="rId2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violent whirling wind that moves in a narrow path over land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marL="838080" indent="-355320">
              <a:spcBef>
                <a:spcPts val="4501"/>
              </a:spcBef>
              <a:buSzPct val="100000"/>
              <a:buBlip>
                <a:blip r:embed="rId3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measured using the Fujita scale- named after Theodore Fujita- ranks according to how much damage they cause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1" descr=""/>
          <p:cNvPicPr/>
          <p:nvPr/>
        </p:nvPicPr>
        <p:blipFill>
          <a:blip r:embed="rId1"/>
          <a:stretch/>
        </p:blipFill>
        <p:spPr>
          <a:xfrm>
            <a:off x="7416720" y="2927520"/>
            <a:ext cx="4521240" cy="5879880"/>
          </a:xfrm>
          <a:prstGeom prst="rect">
            <a:avLst/>
          </a:prstGeom>
          <a:ln w="0">
            <a:noFill/>
          </a:ln>
        </p:spPr>
      </p:pic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hurricanes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44600" y="2374920"/>
            <a:ext cx="656568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355320">
              <a:spcBef>
                <a:spcPts val="4501"/>
              </a:spcBef>
              <a:buSzPct val="100000"/>
              <a:buBlip>
                <a:blip r:embed="rId2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most powerful storm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marL="838080" indent="-355320">
              <a:spcBef>
                <a:spcPts val="4501"/>
              </a:spcBef>
              <a:buSzPct val="100000"/>
              <a:buBlip>
                <a:blip r:embed="rId3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large, swirling low-pressure system that forms over the warm Atlantic Ocean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marL="838080" indent="-355320">
              <a:spcBef>
                <a:spcPts val="4501"/>
              </a:spcBef>
              <a:buSzPct val="100000"/>
              <a:buBlip>
                <a:blip r:embed="rId4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rotate counter-clockwise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1" descr=""/>
          <p:cNvPicPr/>
          <p:nvPr/>
        </p:nvPicPr>
        <p:blipFill>
          <a:blip r:embed="rId1"/>
          <a:stretch/>
        </p:blipFill>
        <p:spPr>
          <a:xfrm>
            <a:off x="7416720" y="2927520"/>
            <a:ext cx="4521240" cy="587988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4240" y="151920"/>
            <a:ext cx="1211580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3f3f3f"/>
                </a:solidFill>
                <a:latin typeface="Herculanum"/>
              </a:rPr>
              <a:t>blizzards</a:t>
            </a:r>
            <a:endParaRPr b="0" lang="en-US" sz="78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44600" y="2374560"/>
            <a:ext cx="6565680" cy="6972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355320">
              <a:spcBef>
                <a:spcPts val="4501"/>
              </a:spcBef>
              <a:buSzPct val="100000"/>
              <a:buBlip>
                <a:blip r:embed="rId2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winds are 51 kph (about 31 mph)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marL="838080" indent="-355320">
              <a:spcBef>
                <a:spcPts val="4501"/>
              </a:spcBef>
              <a:buSzPct val="100000"/>
              <a:buBlip>
                <a:blip r:embed="rId3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emperature is -12</a:t>
            </a:r>
            <a:r>
              <a:rPr b="0" lang="en-US" sz="3400" spc="-1" strike="noStrike" baseline="32000">
                <a:solidFill>
                  <a:srgbClr val="5f7bae"/>
                </a:solidFill>
                <a:latin typeface="Palatino"/>
              </a:rPr>
              <a:t>o </a:t>
            </a: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C or below (about 10</a:t>
            </a:r>
            <a:r>
              <a:rPr b="0" lang="en-US" sz="3400" spc="-1" strike="noStrike" baseline="32000">
                <a:solidFill>
                  <a:srgbClr val="5f7bae"/>
                </a:solidFill>
                <a:latin typeface="Palatino"/>
              </a:rPr>
              <a:t>o</a:t>
            </a:r>
            <a:r>
              <a:rPr b="0" lang="en-US" sz="3400" spc="-1" strike="noStrike" baseline="35000">
                <a:solidFill>
                  <a:srgbClr val="5f7bae"/>
                </a:solidFill>
                <a:latin typeface="Palatino"/>
              </a:rPr>
              <a:t> </a:t>
            </a:r>
            <a:r>
              <a:rPr b="0" lang="en-US" sz="5100" spc="-1" strike="noStrike" baseline="3000">
                <a:solidFill>
                  <a:srgbClr val="5f7bae"/>
                </a:solidFill>
                <a:latin typeface="Palatino"/>
              </a:rPr>
              <a:t>F)</a:t>
            </a:r>
            <a:endParaRPr b="0" lang="en-US" sz="5100" spc="-1" strike="noStrike">
              <a:solidFill>
                <a:srgbClr val="5f7bae"/>
              </a:solidFill>
              <a:latin typeface="Palatino"/>
            </a:endParaRPr>
          </a:p>
          <a:p>
            <a:pPr marL="838080" indent="-355320">
              <a:spcBef>
                <a:spcPts val="4501"/>
              </a:spcBef>
              <a:buSzPct val="100000"/>
              <a:buBlip>
                <a:blip r:embed="rId4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 baseline="3000">
                <a:solidFill>
                  <a:srgbClr val="5f7bae"/>
                </a:solidFill>
                <a:latin typeface="Palatino"/>
              </a:rPr>
              <a:t>visibility is less than 200 meters (218 yards- football field is 120 yards)</a:t>
            </a:r>
            <a:endParaRPr b="0" lang="en-US" sz="5100" spc="-1" strike="noStrike">
              <a:solidFill>
                <a:srgbClr val="5f7bae"/>
              </a:solidFill>
              <a:latin typeface="Palatino"/>
            </a:endParaRPr>
          </a:p>
          <a:p>
            <a:pPr marL="838080" indent="-355320">
              <a:spcBef>
                <a:spcPts val="4501"/>
              </a:spcBef>
              <a:buSzPct val="100000"/>
              <a:buBlip>
                <a:blip r:embed="rId5"/>
              </a:buBlip>
              <a:tabLst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 baseline="3000">
                <a:solidFill>
                  <a:srgbClr val="5f7bae"/>
                </a:solidFill>
                <a:latin typeface="Palatino"/>
              </a:rPr>
              <a:t>conditions last for 3 hours or more</a:t>
            </a:r>
            <a:endParaRPr b="0" lang="en-US" sz="51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1" descr=""/>
          <p:cNvPicPr/>
          <p:nvPr/>
        </p:nvPicPr>
        <p:blipFill>
          <a:blip r:embed="rId1"/>
          <a:stretch/>
        </p:blipFill>
        <p:spPr>
          <a:xfrm>
            <a:off x="6095880" y="-209520"/>
            <a:ext cx="3098880" cy="400032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4600" y="140976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3f3f3f"/>
                </a:solidFill>
                <a:latin typeface="Herculanum"/>
              </a:rPr>
              <a:t>weather instruments</a:t>
            </a:r>
            <a:endParaRPr b="0" lang="en-US" sz="7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-444960" y="4800240"/>
            <a:ext cx="6566040" cy="374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hermometers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anemometers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hygrometers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barometers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weather vane/compass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rain gauge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2"/>
          <a:stretch/>
        </p:blipFill>
        <p:spPr>
          <a:xfrm>
            <a:off x="9167760" y="1162080"/>
            <a:ext cx="3213000" cy="4165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"/>
          <p:cNvPicPr/>
          <p:nvPr/>
        </p:nvPicPr>
        <p:blipFill>
          <a:blip r:embed="rId3"/>
          <a:stretch/>
        </p:blipFill>
        <p:spPr>
          <a:xfrm>
            <a:off x="7683480" y="3828960"/>
            <a:ext cx="2705040" cy="34927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6" descr=""/>
          <p:cNvPicPr/>
          <p:nvPr/>
        </p:nvPicPr>
        <p:blipFill>
          <a:blip r:embed="rId4"/>
          <a:stretch/>
        </p:blipFill>
        <p:spPr>
          <a:xfrm>
            <a:off x="10223640" y="5607000"/>
            <a:ext cx="2705040" cy="34927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7" descr=""/>
          <p:cNvPicPr/>
          <p:nvPr/>
        </p:nvPicPr>
        <p:blipFill>
          <a:blip r:embed="rId5"/>
          <a:stretch/>
        </p:blipFill>
        <p:spPr>
          <a:xfrm>
            <a:off x="5192640" y="4743360"/>
            <a:ext cx="2616120" cy="33782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8" descr=""/>
          <p:cNvPicPr/>
          <p:nvPr/>
        </p:nvPicPr>
        <p:blipFill>
          <a:blip r:embed="rId6"/>
          <a:stretch/>
        </p:blipFill>
        <p:spPr>
          <a:xfrm>
            <a:off x="7505640" y="6737400"/>
            <a:ext cx="2705040" cy="34923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"/>
          <p:cNvPicPr/>
          <p:nvPr/>
        </p:nvPicPr>
        <p:blipFill>
          <a:blip r:embed="rId7"/>
          <a:stretch/>
        </p:blipFill>
        <p:spPr>
          <a:xfrm>
            <a:off x="2730600" y="-311040"/>
            <a:ext cx="2260440" cy="29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" descr=""/>
          <p:cNvPicPr/>
          <p:nvPr/>
        </p:nvPicPr>
        <p:blipFill>
          <a:blip r:embed="rId1"/>
          <a:stretch/>
        </p:blipFill>
        <p:spPr>
          <a:xfrm>
            <a:off x="7416720" y="1936800"/>
            <a:ext cx="4521240" cy="58798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44600" y="140976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3f3f3f"/>
                </a:solidFill>
                <a:latin typeface="Herculanum"/>
              </a:rPr>
              <a:t>Thermometer</a:t>
            </a:r>
            <a:endParaRPr b="0" lang="en-US" sz="7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29760" y="4851360"/>
            <a:ext cx="6566040" cy="4254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how quickly or slowly molecules move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measures temperature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temperature is measured in degrees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some scales used are Fahrenheit &amp; Celsius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" descr=""/>
          <p:cNvPicPr/>
          <p:nvPr/>
        </p:nvPicPr>
        <p:blipFill>
          <a:blip r:embed="rId1"/>
          <a:stretch/>
        </p:blipFill>
        <p:spPr>
          <a:xfrm>
            <a:off x="7416720" y="1936800"/>
            <a:ext cx="4521240" cy="587988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44600" y="140976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3f3f3f"/>
                </a:solidFill>
                <a:latin typeface="Herculanum"/>
              </a:rPr>
              <a:t>Hygrometer</a:t>
            </a:r>
            <a:endParaRPr b="0" lang="en-US" sz="7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44600" y="478800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How much moisture is in the air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measures relative humidity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It is a percentage: %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" descr=""/>
          <p:cNvPicPr/>
          <p:nvPr/>
        </p:nvPicPr>
        <p:blipFill>
          <a:blip r:embed="rId1"/>
          <a:stretch/>
        </p:blipFill>
        <p:spPr>
          <a:xfrm>
            <a:off x="7416720" y="1936800"/>
            <a:ext cx="4521240" cy="587988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44600" y="140976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3f3f3f"/>
                </a:solidFill>
                <a:latin typeface="Herculanum"/>
              </a:rPr>
              <a:t>Barometer</a:t>
            </a:r>
            <a:endParaRPr b="0" lang="en-US" sz="7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44600" y="478800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force per unit area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measures air pressure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measured in millibars (mb)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higher pressure = nicer weather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lower pressure = rainy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"/>
          <p:cNvPicPr/>
          <p:nvPr/>
        </p:nvPicPr>
        <p:blipFill>
          <a:blip r:embed="rId1"/>
          <a:stretch/>
        </p:blipFill>
        <p:spPr>
          <a:xfrm>
            <a:off x="7416720" y="1936800"/>
            <a:ext cx="4521240" cy="58798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4600" y="140976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3f3f3f"/>
                </a:solidFill>
                <a:latin typeface="Herculanum"/>
              </a:rPr>
              <a:t>Anemometer</a:t>
            </a:r>
            <a:endParaRPr b="0" lang="en-US" sz="7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44600" y="478800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How quickly air is moving past an object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measures wind speed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mph or kph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" descr=""/>
          <p:cNvPicPr/>
          <p:nvPr/>
        </p:nvPicPr>
        <p:blipFill>
          <a:blip r:embed="rId1"/>
          <a:stretch/>
        </p:blipFill>
        <p:spPr>
          <a:xfrm>
            <a:off x="7280280" y="1860480"/>
            <a:ext cx="3479760" cy="450864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4600" y="140976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3f3f3f"/>
                </a:solidFill>
                <a:latin typeface="Herculanum"/>
              </a:rPr>
              <a:t>Wind Vane or compass</a:t>
            </a:r>
            <a:endParaRPr b="0" lang="en-US" sz="7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44600" y="478800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A compass is used to determine the direction from which the wind is coming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wind direction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North, South, East, West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7550280" y="6242040"/>
            <a:ext cx="2921040" cy="37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" descr=""/>
          <p:cNvPicPr/>
          <p:nvPr/>
        </p:nvPicPr>
        <p:blipFill>
          <a:blip r:embed="rId1"/>
          <a:stretch/>
        </p:blipFill>
        <p:spPr>
          <a:xfrm>
            <a:off x="7416720" y="1936800"/>
            <a:ext cx="4521240" cy="587988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44600" y="140976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3f3f3f"/>
                </a:solidFill>
                <a:latin typeface="Herculanum"/>
              </a:rPr>
              <a:t>Rain Gauge</a:t>
            </a:r>
            <a:endParaRPr b="0" lang="en-US" sz="7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44600" y="478800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How much rain over a given time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measured in inches or centimeters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1" descr=""/>
          <p:cNvPicPr/>
          <p:nvPr/>
        </p:nvPicPr>
        <p:blipFill>
          <a:blip r:embed="rId1"/>
          <a:stretch/>
        </p:blipFill>
        <p:spPr>
          <a:xfrm>
            <a:off x="7416720" y="1936800"/>
            <a:ext cx="4521240" cy="587988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44600" y="140976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3f3f3f"/>
                </a:solidFill>
                <a:latin typeface="Herculanum"/>
              </a:rPr>
              <a:t>Radiosonde</a:t>
            </a:r>
            <a:endParaRPr b="0" lang="en-US" sz="7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44600" y="4788000"/>
            <a:ext cx="65656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f7bae"/>
                </a:solidFill>
                <a:latin typeface="Palatino"/>
              </a:rPr>
              <a:t>weather tools carried into the atmosphere to collect data about the weather.</a:t>
            </a:r>
            <a:endParaRPr b="0" lang="en-US" sz="3400" spc="-1" strike="noStrike">
              <a:solidFill>
                <a:srgbClr val="5f7bae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70255</dc:creator>
  <dc:description/>
  <dc:language>en-US</dc:language>
  <cp:lastModifiedBy>test</cp:lastModifiedBy>
  <dcterms:modified xsi:type="dcterms:W3CDTF">2013-05-28T18:11:33Z</dcterms:modified>
  <cp:revision>1</cp:revision>
  <dc:subject/>
  <dc:title>Weather</dc:title>
</cp:coreProperties>
</file>